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5D30-5B33-482E-BF8B-462B3700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51D-4994-44DE-BE49-E5EBC802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72E-5594-4860-AE0F-5A3FB61E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21B-2E91-469D-A58D-688A9E5D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840-7D25-4F5B-956E-BA694FE9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1910-0C1D-491D-90B9-BE460BBA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D95-CE4A-422B-BA29-CDE52F4C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C608-68A3-4894-B047-1A8F121E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855D-D0C7-4DAD-A232-79442D5B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C0A9-DD72-4DBC-81BE-52458DFD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A771-91CC-4AFE-9165-DAB52A21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8487-F4A1-47FD-B611-AD0657D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15B-774A-41A9-959B-744CBC59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8B61-2F28-4F9F-B79A-BEF49526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80F3-6C0D-43DC-AB26-51D5AA7C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5802-741A-4842-87AD-1F9888D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8BCF-F2F6-4C59-A37C-51D70ECE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6C7E-7AE4-4D6A-83C3-45709055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424-05DE-44D7-9165-B47269AE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88D-0D81-4B63-A35F-90FB861B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AA8-221B-48C9-98D8-248FFD1C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C7E-356D-4531-B27C-24C1A847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379-A9F0-4B99-AEDF-770211EA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C97-E381-46FC-9FDF-91D59B68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DA2-40E4-475C-AA64-7FF54C7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4D7-00C6-4150-9F0D-7E37C090D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2C6B-ABF0-481C-A258-CC19142C0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pol.tcnj.edu/amer_pol_hist/fi/000000bd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 United States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view Session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uthern Social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17920" y="2346480"/>
            <a:ext cx="3908160" cy="3384360"/>
            <a:chOff x="2617920" y="2346480"/>
            <a:chExt cx="3908160" cy="3384360"/>
          </a:xfrm>
        </p:grpSpPr>
        <p:sp>
          <p:nvSpPr>
            <p:cNvPr id="110" name="_s20489"/>
            <p:cNvSpPr/>
            <p:nvPr/>
          </p:nvSpPr>
          <p:spPr>
            <a:xfrm flipV="1">
              <a:off x="4181400" y="2346480"/>
              <a:ext cx="781200" cy="676080"/>
            </a:xfrm>
            <a:custGeom>
              <a:avLst/>
              <a:gdLst>
                <a:gd name="textAreaLeft" fmla="*/ 280080 w 781200"/>
                <a:gd name="textAreaRight" fmla="*/ 501120 w 781200"/>
                <a:gd name="textAreaTop" fmla="*/ 242640 h 676080"/>
                <a:gd name="textAreaBottom" fmla="*/ 43344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lanter Cla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0490"/>
            <p:cNvSpPr/>
            <p:nvPr/>
          </p:nvSpPr>
          <p:spPr>
            <a:xfrm flipV="1">
              <a:off x="3790800" y="3021840"/>
              <a:ext cx="1562400" cy="677880"/>
            </a:xfrm>
            <a:custGeom>
              <a:avLst/>
              <a:gdLst>
                <a:gd name="textAreaLeft" fmla="*/ 343440 w 1562400"/>
                <a:gd name="textAreaRight" fmla="*/ 1218960 w 1562400"/>
                <a:gd name="textAreaTop" fmla="*/ 149040 h 677880"/>
                <a:gd name="textAreaBottom" fmla="*/ 5288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Yeomen Farm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20491"/>
            <p:cNvSpPr/>
            <p:nvPr/>
          </p:nvSpPr>
          <p:spPr>
            <a:xfrm flipV="1">
              <a:off x="3398760" y="3699720"/>
              <a:ext cx="2346480" cy="676440"/>
            </a:xfrm>
            <a:custGeom>
              <a:avLst/>
              <a:gdLst>
                <a:gd name="textAreaLeft" fmla="*/ 407160 w 2346480"/>
                <a:gd name="textAreaRight" fmla="*/ 1939320 w 2346480"/>
                <a:gd name="textAreaTop" fmla="*/ 117360 h 676440"/>
                <a:gd name="textAreaBottom" fmla="*/ 55908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House Sla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0492"/>
            <p:cNvSpPr/>
            <p:nvPr/>
          </p:nvSpPr>
          <p:spPr>
            <a:xfrm flipV="1">
              <a:off x="3008160" y="4376160"/>
              <a:ext cx="3127680" cy="677880"/>
            </a:xfrm>
            <a:custGeom>
              <a:avLst/>
              <a:gdLst>
                <a:gd name="textAreaLeft" fmla="*/ 470520 w 3127680"/>
                <a:gd name="textAreaRight" fmla="*/ 2657160 w 3127680"/>
                <a:gd name="textAreaTop" fmla="*/ 101880 h 677880"/>
                <a:gd name="textAreaBottom" fmla="*/ 57600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oor Wh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0493"/>
            <p:cNvSpPr/>
            <p:nvPr/>
          </p:nvSpPr>
          <p:spPr>
            <a:xfrm flipV="1">
              <a:off x="2617920" y="5054760"/>
              <a:ext cx="3908160" cy="676080"/>
            </a:xfrm>
            <a:custGeom>
              <a:avLst/>
              <a:gdLst>
                <a:gd name="textAreaLeft" fmla="*/ 533520 w 3908160"/>
                <a:gd name="textAreaRight" fmla="*/ 3374640 w 3908160"/>
                <a:gd name="textAreaTop" fmla="*/ 92160 h 676080"/>
                <a:gd name="textAreaBottom" fmla="*/ 58392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Field Sla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aternalistic view of slavery held that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ry was necessary to protect blacks from the mistreatment and abuse they would receive if they were fr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most common form of resistance on the part of black American slaves prior to the Civil War was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olent uprisings in which many persons were kil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s to escape and reach Canada by means of the ‘Underground Railroad.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ive resistance, including breaking tools and slightly slowing the pace of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son of plantation buildings and cotton g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soning of the food consumed by their white mas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nifest Destiny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stward Expans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egon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xa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xican America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bster-Ashburton Trea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mon 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ld Ru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fest Destiny and Growing Sectio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738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In coining the phrase “Manifest Destiny,” journalist John L. O’Sullivan meant that…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ruggle for racial equality was the ultimate goal of America’s exist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was certain to become an independent country sooner 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the destiny of America to overspread the contin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must eventually become either all slave or all fr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should seek to acquire an overseas emp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ne reason for the Anglo-Texan rebellion against Mexican rule was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xicans opposed sla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xican government refused to allow the "Old Three Hundred" to purchase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lo-Texans wanted to break away from a government that had grown too authoritar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lo-Texans objected to the Mexican government's execution of Stephen Aust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uilding Cri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mot Provi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promise of 18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ed Fugitive Slav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sas-Nebraska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Sovereig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eding Kan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red Scott v. Sanf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6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any Southerners supported the Compromise of 1850 because i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that cotton be substituted for currency as a medium of exchan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the number of free states and slave states eq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ized slavery in all the newly acquired territor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possible creation of five states out of Tex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return of fugitive s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In the 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Dred Scott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case, the Supreme Court ruled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d Scott was not a citizen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d Scott could not legally sue in a federal co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ssouri Compromise was unconstitu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had no power to ban slavery from a terri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ety of the U.S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1800-1859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ing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op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m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mi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ti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Reform Attempts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nce, Public Schools, Prison Reform, Asylum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rinciple of ‘popular sovereignty’ wa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nceived by Senator Stephen A. Doug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d as part of the Missouri Comprom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entral feature of the Kansas-Nebraska A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olicy favored by the Whig Party during the late 1840s and early 185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essful in solving the impasse over the status of slavery in the territo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Outbreak of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Inaugural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t Sum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War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incoln won the 1860 Presidential Election primarily because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re was overwhelming support throughout the country for the Republican’s anti-slavery platform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as seen as a moderate by both Northerners and Southerners who could possibly negotiate a compromise between abolitionists and slaveholder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gathered overwhelming support in the highly populated Northern states while his three opponents divided the anti-Lincoln vote in the North, West, and Sout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Know-Nothing Party gave Lincoln its endorsement, and combined with Republican support, the two parties were able to outpoll the politically isolated Democra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as able to discredit his chief opponent, Stephen Douglas, as a “closet abolitionist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219320"/>
            <a:ext cx="75438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dvantages of Both the North and the Sou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Cotton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al cau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mportant Points of the Civil Wa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front:  North and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ncipation Procla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ysburg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issuing the Emancipation Proclamation, one of Lincoln’s goals was to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 the active aid of Great Britain and France in restoring the Un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ir up enthusiasm for the war in such border states as Maryland and Kentuck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the radicals in the North by abolishing slavery in the areas of the South already under the control of Union arm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Russia, one of the Union’s few overseas friends, where the serfs had been emancipated the previous y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Britain and France from intervening on the side of the Confede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onstr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’s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ional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ized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-War Life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harecropping system in the South following Reconstruction had the effect of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llowing many former slaves and poor white tenant farmers, who could have never otherwise owned land, to buy their own farm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Moving many former slaves and poor white tenant farmers into the middle clas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ushing tenant farmers and poor independent farmers into deep levels of debt to large landowners and merchant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elping to limit the power of former plantation owners and Northern business interest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hanging the basic attitudes of whites and blacks who were now forced to work side by side farming the same land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construction Pla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10 Per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’s Presidential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cal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idents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uild Up to the Civil War through the Gilded Ag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tin Van Buren (1837-184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am Harrison (184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Tyler (1841-184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Polk (1845-184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chary Taylor (1849-185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llard Fillmore (1850-185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anklin Pierce (1853-18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Buchanan (1857-186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raham Lincoln (1861-186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rew Johnson (1865-186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lysses S. Grant (1869-18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therford B. Hayes (1877-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Garfield (1881-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ster Arthur (1881-188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ver Cleveland (1885-188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jamin Harrison (1889-189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ver Cleveland (1893-189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Gilded 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ward Expa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s/Corru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/Economy/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and Cultural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ign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stward Expa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derick Jackson Turner’s Frontie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stead Act/Exodus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continental Railr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tle Industry/Cowbo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Ge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Native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86200" cy="2997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braska Homestea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4419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pen-range ranching came to an end due 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production of beef and declining pr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support for irrigated agricul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nge wars between cattlemen and sheepher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cattle production in the Midwest and 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ncing of the plains with barbed w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Homestead Act provided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Indians should henceforth own their lands as individuals rather than collectively as trib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0 acres of free land within the public domain to any head of household who would settle on it and improve it over a period of five y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amounts of federal government land to Great Plains cattle ranchers who would contract to provide beef for the Union arm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0 acres of land to each former slave above the age of 2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the land of former Confederates should not be confisc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s and Corrup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ysses S. Gr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therford B. Ha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Gar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ver Cleve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3623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dustrialization/Economy/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gricultu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Darwi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or Unrest/Labor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Business/Captains of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of Popu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Inter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dustrialization in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1781280" cy="1390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362320" y="2209680"/>
            <a:ext cx="4143240" cy="3227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562720" y="4114800"/>
            <a:ext cx="3276360" cy="2308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447920" y="365760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509760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only dominant, broad-based labor union in the United States from 1870-1890 wa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Labor U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Workers of the World (IW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Federation of Labor (AF of 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of Industrial Organization (C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ights of La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Changing N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wth of the Great W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rop in the Birthra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crease in Immigr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wing Problems of Urbaniz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anging Roles of Women and Minor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The first "big business" in America, at least in terms of finance, labor relations, and management, was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il refining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lephon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i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el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ilroad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?  Why?  Whe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lis Island/Angel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Settlement 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al and Cultural Develop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b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for the Be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Gospel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 in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e of African-American L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tu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spapers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az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ry/Artistic Re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Amus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cago’s World’s F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e of Radio and Fil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cago’ Columbian Expos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4410000" cy="3174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443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 following was among the objectives of Booker T. Washingt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keep up a constant agitation of questions of racial equ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courage blacks to be more militant in demanding their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courage blacks to work hard, acquire property, and prove they were worthy of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urge blacks to accept separate but equal fac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orm an organization to advance the rights of bla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eign Rel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ment from Isolationism to Interventio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roe Doctr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Involvement in the Western Hemisphere in the lat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All of the following encouraged American imperialism at the end of the nineteenth century except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pean Imperi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llow Jour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Darwi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val views of Alfred Thayer Ma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Immigr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Which of the following supplied the largest number of immigrants to the United States during the first half of the 19c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e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erman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term "Cult of Domesticity" refers 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arly 19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Century Industrializ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id we go through industrializ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ntions and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ise of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s in 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s in Comme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tors promoting the beginnings of American industrialization during the early 19</a:t>
            </a:r>
            <a:r>
              <a:rPr b="0" lang="en-US" sz="28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century included all of the following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Protective Tarif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ments in Transpor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-Scale Im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sence of craft organizations that tied artisans to a single tr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 World-Life in the Sou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rian, Division between the Upper and Lower South, Distinct Social Classes, Urban Sla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olts/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of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 to Anti-Slavery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54:12Z</dcterms:created>
  <dc:creator>School District U46</dc:creator>
  <dc:description/>
  <dc:language>en-US</dc:language>
  <cp:lastModifiedBy>School District U46</cp:lastModifiedBy>
  <dcterms:modified xsi:type="dcterms:W3CDTF">2009-04-09T00:01:51Z</dcterms:modified>
  <cp:revision>110</cp:revision>
  <dc:subject/>
  <dc:title>AP United States Review Session</dc:title>
</cp:coreProperties>
</file>